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540-FFDE-43B8-9B6C-A8B88558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4C6-BBE6-4A4F-AE23-1683C69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7FC2B-6AA9-4358-88C3-2AFABB20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71428-7A87-4F45-A745-5CDC5D42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BF89D-D3F3-4605-821F-017FE829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E3A73-A25D-48E9-8854-F84D729F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D9166-66CC-424C-8C5E-51C1948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63A21-B408-47D3-B07C-23EB518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952A3-AD96-444B-A0A3-A7AB80F6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93548-B965-4D6F-BEF5-8AF93A0E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25360-28C8-411E-BF8A-3C88D999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5F4D1-DD6C-4B8F-81D5-C86D4BC0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8F6-667C-4AC5-9CF9-A3762791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A6B56-E399-459D-9D0E-544B1BE5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34D58-0993-4E8F-BD1C-7FBA7E15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1EF2F-003F-4B65-AF83-411C5F59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9CE94-C8EC-4E48-8B21-5F686785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4F2BE-F8D2-4761-80F4-B6995609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0F277-1FEB-4DD9-8F8D-1FB7367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057D-C868-4423-BFCE-C664D24A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103F9-3691-4AB1-BFBA-4E6E027C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96992-A185-43B6-8293-B5BC15D6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88317-7C89-4A08-8907-8B5CE179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F2C-0780-4851-A0D6-9A8F05C5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1D6CD-9844-47BD-9714-CE13C77A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86AA1-684A-4FE1-88CC-F701C7CA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0339F-2C98-4093-9191-A7DD82D4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4A6F2-9D78-43C2-AD29-63F40ED5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D2A94-6EA4-434A-9239-9248F827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BF0A3-3039-4D06-BBB7-84825E17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7C519-F968-4BE4-9562-BF8266BA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A88AD-0D3C-42DF-9876-4B6ED3AE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23806-A8A7-4D88-8EF3-6E244276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2E8B2-3C24-47B8-BB2F-814F7B7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45EA-AE13-4181-865D-03D89435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67AF1-2891-4BD6-87AF-3E2576CB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F27EF-003E-4232-9DC1-CC83E218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B0805-0F2F-4F72-837F-7AB736E5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3577D-E562-4F14-AA3A-23C10275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6BE8E-A583-41A4-A1A7-AC4B7590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0E1FB-111E-4546-A2C1-B82235E4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CA68F-2EAD-44F5-9244-FC105292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85166-6C37-44AE-AF5F-19D18AEC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D5B11-12C9-4CCC-9A67-E8AE799F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E7406-C22F-4B9E-A2E9-C69379E1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26E3-45D9-4B7A-83C2-3B64CBE9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E2231-732A-4D15-BA71-8B3984D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8A58A-80BA-4428-A9B9-F9AD918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EC94A-ADF5-4C88-8DA1-02889766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AED73-BAE5-430F-B903-055E0BD5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72E06-F1B1-4562-9E03-E11BE0B5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AE41D-6699-442A-9DC1-DC0022C0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733DA-DCD8-4A16-8BB4-1EA180D4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4F033-0CF5-4EC8-ACA9-01A97166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5FB33-3E46-4BFC-8F27-79397E6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63C6A-DF00-447E-B5D4-E13383F4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20A7-DE03-4D06-B212-6CF36D66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DACB7-A28C-4BD9-A761-1AACF74D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C1E0F-EBDE-4834-8EE6-5030EE0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85B8E-80BA-4F57-8CC4-653E6C2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004D1-2F1F-4710-9D85-E6065067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DE571-AEC4-48C6-8BC6-6EF28B75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08CF5-49F2-4B4A-AF97-DAE990E2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6AFBA-B97C-4A31-A217-71F58DE6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3D521-9AD7-4159-B7B8-EE869C0D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D5FD2-B4F4-41F2-9390-0EAFE899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AF66B-1EBA-44C3-8968-2F3B5CE5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ACCE-D3FC-45AA-8017-086ADC18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FD225-832B-4D6F-AC92-8243A544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0A680-FA8B-4BB0-98BD-B24B55AF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B1EF0-FE13-4C96-9365-BFB955B5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7C9D0-44BD-4CCC-9D98-CD6EC37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93279-11B2-4E05-8BD1-8B8540FD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53BB1-4E24-42C3-8CF7-F140FEC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4024F-31C5-4A2B-B9C9-008ACEDB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70A7E-87B9-4599-B06F-D55122B5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2E500-6CF8-4208-9AC0-78A7146E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AC41A-77ED-4B5E-BDC4-6842D193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EA6A-D318-41EF-B31B-F25304C3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64A2C-0B80-4894-B87C-9885A658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150FB-81FE-4E39-A2C5-633B0F7A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A47EF-00E3-4800-9AFB-1EAF11DF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9C8FD-A39D-4BE9-AF42-26473430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B971B-900E-40F4-A2D1-D0CFA4B4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AF910-6E12-4736-AA2E-D301AFA9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7B93E-D4F0-485E-8D53-B46A684E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D2C76-EF19-468D-BF08-6EF82D4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33188-223D-45C0-902A-9ACC0DDF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FFC38-9E90-4368-B813-42543E4F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6ADF-D7ED-4E13-8908-418219FC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BDB54-B2BC-4770-A319-1D149277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662B8-07A9-40D3-AF11-D701A7E4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EB2A7B-8348-4F7D-A9DB-FC0E749C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0A249-137A-4F43-891B-FA5613F2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8B4E3-C928-4D4D-890A-5002D83D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45183-B99D-42BD-A4B5-393616A5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41C36-86DC-4964-9750-3F45C0DE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16754-CF3B-4C36-9BA4-18C8B7D0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9D12E-CE18-469F-80BB-A79F6C73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C1E53-E917-4E9B-B7A5-6BA2089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3D5F-F3CA-45DD-91E3-02118CFB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4A013-74C8-48AD-B79B-CBE49677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9D18D-2101-4C66-8B71-8DBBAB66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189B3-5B01-4F96-9996-106EB6E7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0929E-997C-4448-BF6F-3C45A17B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058DD-73F7-48F4-9108-1203B37A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790BA-78E9-4C39-96FD-28A06022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F3B77-4B2F-404E-AFA9-0C867D25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D5463-DAC1-4A7F-A6ED-078E2D38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804D0-F712-4F7F-9A76-9F22107B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BD6693-042A-45BB-A08A-4C2FA90D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F2F-170F-4ACD-8E17-6BB50329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8EBF-C4C5-490E-8895-2A58D6B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E7343-3AFE-42B1-884A-4651D2E0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6334F-1FA7-487C-90BE-A75783F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A85FD-30B7-4772-9D40-5BA2E15B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8D808B-FEC6-4810-BD7B-685F7F02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70DF4-86A5-4388-B07B-0BB6A211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6435B-511A-4943-B2AD-5F63CAD9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3D36A-E233-41EA-B58D-E05EA27B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9830F-C6FC-4919-84BB-B06C7037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F7A9D-5FEE-4292-8F18-D4078971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81C0E-504F-4DD5-8A17-EC922723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89A2-0493-4C0E-868E-E409748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99BDF-2F21-44CD-BC2C-7EFB2440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F61D92-96FD-4E3B-93C8-82F841C9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A6CB9-877C-4C4D-9A5C-14B5449C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8EA23-8F8A-45F6-B0CA-D403102E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AD0A4-4F43-4574-9CBD-27CF8B26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53413-10A3-4979-B085-C648CA68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BEDDC-975B-41D2-AB02-218DF422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45821-1DE8-4D6D-A56D-939B7A1A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324E3-A0F5-4E3B-AC82-CB71BC5C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5D9B22-87DC-4C35-984D-9C5402AB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5C9-EEF0-45A4-9809-4DFF53B7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CBC90-8EE5-4407-8C8A-2246183E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AA58A-BB0F-48DE-8F41-37A9BA5B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CB9929-D4B2-4D9C-9888-6357BE17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BBFF1A-CA6F-46F2-82AA-FFE8DFDC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F9B65-3556-4B92-ACC5-0F33E80A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FF5A0-C7FA-41E5-B171-4C27B7F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1970D0-6E6E-4541-8E3E-2D51A018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B2D68-4B94-4025-BB49-5141CACA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3B2632-95D3-49CC-994E-7EDA6DA0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348AD7-C772-4083-AB50-53D1934A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E4F4-37D4-4562-BAF3-09F850DD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2E87B-9371-4DE0-B7E0-E2D6BF3C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67762-B981-4F0A-AA91-2B6E96DE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9DD9EA-F0CC-4569-BBE6-4D6CAB69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42E32D-08BA-4791-BAA0-7AFBDDF1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1012F-3072-4939-8669-5E58E7BC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A0C311-54CD-4F6B-B0C2-3A594C1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54F46-2114-4625-9437-7E50187F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064FA9-7F79-46D5-8F9D-AAB8D62D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FC911-5716-4382-B5CD-F3455161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F20A4A-120B-4816-811D-F0461228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981B-7241-492D-BDA2-291047A6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379BB-0E5B-4BCD-B881-C3C391C8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92079A-C6A4-41A0-905E-780569A5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015824-D050-4AFF-841E-F55A6545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D4A13-11AD-4CDC-9F49-A75415FA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F0A1A5-7DB5-4DCB-BEB7-4654E89F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3C1511-FD95-4738-AE92-C6DF6CD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6D61DC-874A-403D-B8B7-095464F1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5CF96D-A1BB-42D3-95B7-2FDADDA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74C9BB-8676-49F9-BA6A-B20F2916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3BFF3-F073-40AA-8D7A-8EC3ACD6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1306-701A-4C4C-BE42-627F6DC9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16B0B6-57D5-4467-8635-BE44FF8B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598DFE-4552-401A-BFDB-BFA02EAE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3E49B1-BED0-429F-96FC-20E967E6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55D1-F4BC-4CDD-8D09-E92C84C1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63B7-3781-43AE-9623-EE641D8F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3FB5-997E-42BE-A6FF-8C15A52F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2CAC-5D32-43A4-8911-E5EF39BF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FFB-C54A-4BDE-AB7E-0F95580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1D86-5758-4977-9019-30539B6B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BF2B-990A-4868-AC02-7B9B07A4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E13B-D546-4745-A000-F24FFA04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C1605-77AC-4907-8559-032DDDB7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3508-12EE-49F6-9256-C80C8D5D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E758-1EA4-451D-9014-B6E58908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BEED-4A4F-41C5-8660-AE4052BF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1B97-0AAE-429B-AC64-A086F2F2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E20B9-8EB4-4258-A1BB-42F1D4A2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0E00-677A-4E1F-B333-93356DB8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1BC-10DE-4693-9B61-841DDF05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7CC7-AD6D-4AEC-B965-02D43EFB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7D6F-5F9C-4D56-B88F-6BD5AD17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C91C-6DCB-41D1-991E-AC41EB18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E997-EFD2-4BBB-8555-6439E045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7BDC-2148-4428-864F-29E732D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38FB5-B9CA-4B33-A207-A48C9E8E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D03D-ADD9-4D3A-8BFA-670EBB8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5BFC-D78E-4456-9793-3B824462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9B5C-85E0-4DA1-97B2-A66536D8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9076-638A-4057-A468-16338B9E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E9A-5019-4623-9806-2F734A00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35D52-E6E9-40FD-9173-C23EF6A3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D7D0F-FD6E-4E02-94F3-127DBD04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50A0C-66F9-4E5A-989E-A6047CF1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8E44-A0F2-4039-9BC5-35EB901E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F883-AF6F-40E3-B2CE-AA7B0B1B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9293-D21C-4063-9222-5AC9341A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A24F9-880F-477A-82FE-223FD20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9B7E2-61F2-4454-BD02-F36000D6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37EF3-6562-4B9E-B65B-9EFA6586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BC5E1-FED2-4C74-928D-B387A625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81D-BE2B-4952-BE34-772F57F5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B2363-AFF5-45BF-9489-163751EB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00ED1-0AF7-43FD-BABA-D6B02FEF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C2653-9AF5-4E76-BE63-09C56F46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5F6C1-A193-4116-8A98-96187A3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810B1-A3D0-467C-82BF-0C099BF2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0630-220C-4FC2-8968-A86FB99E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1ECB-D40E-4979-94B3-AB178E3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75D9C-A3CC-4D86-8264-BB072903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3364-70BC-4C75-8DCD-FE875D1C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56A9E-DD53-44AC-A1FF-CED0624C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B87-7F64-455C-AF5D-6A05A0C4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2CA58-9615-4907-99B4-C8BDED14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12F86-BDDD-43C9-8394-F5EA9D8F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3407A-ADD6-4336-831A-20FBA747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16748-6227-4147-806D-CEEF94B2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F01E1-3B23-420B-A053-C8DE6670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5311-2FA7-4F2C-BCB4-D493D7A3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CCE7C-DD8B-4123-8E25-52EE0B41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E8CA7-0A73-42B3-ABAE-083F0ABA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425BD-BFB1-4B35-8E56-260219B2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0655A-7B03-4E6E-9E6B-CEE879B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EA9-EFAF-48C7-B58F-CC09922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150C6-2BE8-43E2-BDE3-DE6C2F08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25111-6C13-400B-87B2-03017F5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B8ED-1713-4048-B70F-98E8E90D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DABFE-A4E2-4A11-B20B-06EC038E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E4F18-74AE-4A68-A364-706D98B2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A87F9-4C34-4C46-884D-183818D1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2F4FA-0567-45D0-AADF-0BC2FEAF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97502-F783-4A8D-AA96-D8B136BA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5CCB3-0404-45DB-B722-AEBC29BB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EA6C1-6BEF-417B-8D21-5A18E2C5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74D-BE41-49FD-B42B-E12CF94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3BF83-2BB9-4B6C-BDBA-948941D1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2EC85-CE29-44BB-B081-0C4D7FFD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9D8D9-4BCD-40E6-801F-B2D19B5B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788F0-4706-4C7A-8011-20B2F50B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EE9E6-95EE-457E-A25C-957C58A4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3CC74-AE94-40C8-8758-DDB64129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2101F-B8BA-4116-98BA-47157DB4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ADBE7-B79F-442F-97AD-2CCF1CE2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8B976-4F75-4BD7-8DE5-F48DBABB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0A6DA-3E03-4FE5-A49A-AD6F665D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CDA0-6770-4D74-ADAC-8551F77C8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751-980B-4D42-BA95-6C366FB2A0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F327-74F9-4CE8-93E4-BCCDD3222E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E771-E02A-428F-AC55-2D9DA8CD2D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42CA-4718-4A5A-BFA3-75259514DA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EE25-F48D-4590-9389-9AF0992D5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1DAB-59AA-420C-8696-526CAD8B61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D99-4C17-4A66-BF7F-6FF4B4251D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4D09-3D4D-4FC2-A93D-10FDB4ADEA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2661-B39C-4FB6-808F-5AE8E47FE9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EF00-1D4B-41F1-B391-9DD93DEE29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13D6-239E-4672-9B00-FAFF758DF8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5C5F-D3C0-4126-A9E1-A7A007EA94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C76F-C951-4AD7-B8A9-0C59873344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1527-D651-4BF0-8441-B1B90E04C2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C12-DC84-44DE-9CF9-CF7C17CAC2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A8E7-5F5A-4C45-A808-90BFD346AD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F120-19D5-49A8-9215-A6A9CE22C9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86B-BA49-4BA2-8154-E4A458F35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B2FD-90C4-4C4A-8124-3FA19CAECF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67DC-D4E2-47B9-BC09-693D240340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DA5E-E307-4F28-8591-B74A7CC358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627E-20CA-4699-9AAF-E7A12CE50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E6CF-0719-4A6B-B81D-41BE01959B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9E4F-EEEE-489F-9EA8-6B3EA0BEFF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ECD2-8999-44CD-8387-E20BE9158A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E053-B7A6-462D-B13F-FD346C8A3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73D1-ED52-413C-88E4-4ED75975E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C06-97D5-4A95-A04E-27A6643CB8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D9F2-2A8B-4829-A572-634A5E0662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FAF-DDC6-41B2-BACD-421E1B991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ED2C-1D08-47F7-B8D9-571B47ABFA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0C2F-DF7F-4989-9AAB-9A6F717366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4C90-F933-4B18-84AC-A5CE1AFF06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DAD2-E3B2-4B7F-A587-91442A97CC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3714-F08D-4E15-BBD1-78F39BB5E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9018-080E-48EA-ABFA-0993D72600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396E-6D60-4218-9F02-F845137F1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C951-7AEC-42CD-8694-9E33C4ABA9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C286-6772-478C-96A2-E54EB457E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62120" y="2948040"/>
            <a:ext cx="76197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69633" descr=""/>
          <p:cNvPicPr/>
          <p:nvPr/>
        </p:nvPicPr>
        <p:blipFill>
          <a:blip r:embed="rId1"/>
          <a:stretch/>
        </p:blipFill>
        <p:spPr>
          <a:xfrm>
            <a:off x="933480" y="934920"/>
            <a:ext cx="7277040" cy="213372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69634" descr=""/>
          <p:cNvPicPr/>
          <p:nvPr/>
        </p:nvPicPr>
        <p:blipFill>
          <a:blip r:embed="rId2"/>
          <a:stretch/>
        </p:blipFill>
        <p:spPr>
          <a:xfrm>
            <a:off x="419040" y="3400560"/>
            <a:ext cx="8305920" cy="2333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4154400" y="148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7380360" y="14842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4356000" y="2133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6948360" y="211932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2340000" y="401940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1979640" y="4653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5435640" y="400536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0"/>
          <a:stretch/>
        </p:blipFill>
        <p:spPr>
          <a:xfrm>
            <a:off x="5435640" y="4653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1"/>
          <a:stretch/>
        </p:blipFill>
        <p:spPr>
          <a:xfrm>
            <a:off x="8028000" y="40482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2"/>
          <a:stretch/>
        </p:blipFill>
        <p:spPr>
          <a:xfrm>
            <a:off x="8207280" y="463860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541440"/>
            <a:ext cx="8524800" cy="6200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877080" y="154152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276720" y="233532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300720" y="234936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708360" y="386064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443640" y="544500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26040" y="622296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57120" y="1281240"/>
            <a:ext cx="8429760" cy="4295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5364000" y="2997360"/>
            <a:ext cx="3456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52320" y="1981080"/>
            <a:ext cx="7839360" cy="2895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3167280" cy="23050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140360" y="2852640"/>
            <a:ext cx="43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628560" y="1157400"/>
            <a:ext cx="7886880" cy="45432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7056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324000" y="781200"/>
            <a:ext cx="8496000" cy="52956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2411280" y="551664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6804000" y="551664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5300" descr=""/>
          <p:cNvPicPr/>
          <p:nvPr/>
        </p:nvPicPr>
        <p:blipFill>
          <a:blip r:embed="rId1"/>
          <a:stretch/>
        </p:blipFill>
        <p:spPr>
          <a:xfrm>
            <a:off x="785880" y="2276640"/>
            <a:ext cx="7572240" cy="2304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2484360" y="40338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6804000" y="403380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285840" y="820800"/>
            <a:ext cx="8572320" cy="58482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55640" y="4249800"/>
            <a:ext cx="8209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2231" descr=""/>
          <p:cNvPicPr/>
          <p:nvPr/>
        </p:nvPicPr>
        <p:blipFill>
          <a:blip r:embed="rId1"/>
          <a:stretch/>
        </p:blipFill>
        <p:spPr>
          <a:xfrm>
            <a:off x="468360" y="565200"/>
            <a:ext cx="8096040" cy="6248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3492360" y="623736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2233" descr=""/>
          <p:cNvPicPr/>
          <p:nvPr/>
        </p:nvPicPr>
        <p:blipFill>
          <a:blip r:embed="rId3"/>
          <a:stretch/>
        </p:blipFill>
        <p:spPr>
          <a:xfrm>
            <a:off x="1677960" y="2762280"/>
            <a:ext cx="3086280" cy="252396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2234" descr=""/>
          <p:cNvPicPr/>
          <p:nvPr/>
        </p:nvPicPr>
        <p:blipFill>
          <a:blip r:embed="rId4"/>
          <a:stretch/>
        </p:blipFill>
        <p:spPr>
          <a:xfrm>
            <a:off x="5407200" y="2736720"/>
            <a:ext cx="30859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9:51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